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3BC-A3C8-4371-96A3-AC5969C4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6B5-997D-4611-BDDD-7BFDB3C8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088-BF76-40A4-AAAA-BA983835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CEF-86D5-4D69-AFB6-11F15026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5CF-1E5C-47E1-87F4-3CDD7F32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CAA-DDE5-41F2-A310-BBE5ECAF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412-9A23-469A-84D5-77B4347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AA8-CC15-48A8-81B9-1A71248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9F5-FDA8-413A-A730-50E0CBB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E33-47F1-4959-877A-2813099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786-3499-4D57-A375-B1FC368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C0C-B7A0-4376-85E9-0989E03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45A9-DE06-4E21-B0AA-756F8CA2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 Baptiste 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dividuals change themsel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of a species were exactly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recognized a need to chan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mselves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ency toward per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&amp; Disuse: organisms could alter the  size or shape of particular organs by using their bodies in new ways or by not using a body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d characteristics (develop during one’s lifetime/not born with them) are passed to one’s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mulation of many small changes leads to a bi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long necks on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iraffes stretched their necks to r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eaves on the trees and pa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retched necks to their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1480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nges occur due to population reproduction 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a species vary in som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environment, resources are limited so not all members of the species can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2819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tions give organisms a better chance of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ganism is born with certain characteristics and does its best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dividuals die before they can pass on their genes - the “fittest” will survive and pass on thei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long necks on a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iraffes that had longer necks li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and passed on their genes f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necks to their offspring - giraff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horter necks ran out of food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ied off more quickly = l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 = survival of the f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22:14Z</dcterms:created>
  <dc:creator>Clayton Johns</dc:creator>
  <dc:description/>
  <dc:language>en-US</dc:language>
  <cp:lastModifiedBy>Clayton Johns</cp:lastModifiedBy>
  <dcterms:modified xsi:type="dcterms:W3CDTF">2009-03-10T14:49:28Z</dcterms:modified>
  <cp:revision>7</cp:revision>
  <dc:subject/>
  <dc:title>History of Evolution</dc:title>
</cp:coreProperties>
</file>